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BDF2-9DA2-4337-8DE8-7FDF35EE2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68CA-154A-4F1D-958E-CECB446E9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 Lecture Notes on Clinical Biochemist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both men &amp; women infertility a serum [FSH] &gt; 25U/L indicates primary gonadal fail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E7EC-0517-45D1-BFA1-FCBFDB37A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Lecture Notes on Clinical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igations depend on the phase of the menstrual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vated serum [progesterone] at day 21 of the menstrual cycle indicates that ovulation has occur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58FB-3E16-46EF-8E37-252CF0F8C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AE2-3FA1-4D55-8E21-26B4D539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D8D-B0D3-4377-90EA-D65286E8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1DF-B201-446D-9822-A6F0001E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F36-F932-44ED-9AA9-54C59368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E76-BB3B-4288-86DB-0A7796FC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411-ABFC-4FB6-970C-2366B439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EF7A-8606-40B2-B1BE-D85A0906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A1C-F8E7-4EA7-BC80-CFECB1A6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309-20D2-4C0C-94F1-98F394E2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0B9-C9D7-40B4-8857-45C82B32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C6F-18A0-4A02-9ED3-7DE2F530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236-6D43-458F-A583-F1322912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E5A1-F93A-41A2-A3FD-3CAF7649B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819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Biochemical Aspect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of Male &amp; Female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Subfertility/ </a:t>
            </a:r>
            <a:r>
              <a:rPr b="0" lang="en-US" sz="5400" spc="-1" strike="noStrike">
                <a:solidFill>
                  <a:srgbClr val="ff0000"/>
                </a:solidFill>
                <a:latin typeface="Aharoni"/>
                <a:ea typeface="Aharoni"/>
              </a:rPr>
              <a:t>Inferti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4"/>
          <p:cNvSpPr/>
          <p:nvPr/>
        </p:nvSpPr>
        <p:spPr>
          <a:xfrm>
            <a:off x="4648320" y="2286000"/>
            <a:ext cx="186984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ow Sperm Count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896040" y="2340000"/>
            <a:ext cx="238428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ormal Sperm Analysis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28600" y="3060720"/>
            <a:ext cx="243828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No endocrine tests are required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4267080" y="3124080"/>
            <a:ext cx="1447920" cy="916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Testosterone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FSH &amp; LH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Prolacti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TextBox 143"/>
          <p:cNvSpPr/>
          <p:nvPr/>
        </p:nvSpPr>
        <p:spPr>
          <a:xfrm>
            <a:off x="228600" y="4800600"/>
            <a:ext cx="1295280" cy="5202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</a:t>
            </a: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FSH &amp; LH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Testosteron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TextBox 146"/>
          <p:cNvSpPr/>
          <p:nvPr/>
        </p:nvSpPr>
        <p:spPr>
          <a:xfrm>
            <a:off x="2209680" y="4800600"/>
            <a:ext cx="1447920" cy="5202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Testosteron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FSH &amp; LH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TextBox 149"/>
          <p:cNvSpPr/>
          <p:nvPr/>
        </p:nvSpPr>
        <p:spPr>
          <a:xfrm>
            <a:off x="3886200" y="4800600"/>
            <a:ext cx="1219320" cy="5202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Testost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</a:t>
            </a: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Prolactin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1800" y="274320"/>
            <a:ext cx="8477280" cy="716040"/>
          </a:xfrm>
          <a:prstGeom prst="rect">
            <a:avLst/>
          </a:prstGeom>
          <a:solidFill>
            <a:srgbClr val="f2f2f2"/>
          </a:solidFill>
          <a:ln w="9360">
            <a:solidFill>
              <a:srgbClr val="00b0f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Diagnostic Approach to Infertility in 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981080" y="1371600"/>
            <a:ext cx="4464000" cy="520560"/>
          </a:xfrm>
          <a:prstGeom prst="rect">
            <a:avLst/>
          </a:prstGeom>
          <a:solidFill>
            <a:srgbClr val="f2f2f2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minal Fluid Analysi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TextBox 108"/>
          <p:cNvSpPr/>
          <p:nvPr/>
        </p:nvSpPr>
        <p:spPr>
          <a:xfrm>
            <a:off x="304920" y="5638680"/>
            <a:ext cx="144756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Primary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hypogonadis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(e.g. testicular)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TextBox 112"/>
          <p:cNvSpPr/>
          <p:nvPr/>
        </p:nvSpPr>
        <p:spPr>
          <a:xfrm>
            <a:off x="2209680" y="5562720"/>
            <a:ext cx="1371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Secondary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hypogonadism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TextBox 136"/>
          <p:cNvSpPr/>
          <p:nvPr/>
        </p:nvSpPr>
        <p:spPr>
          <a:xfrm>
            <a:off x="3809880" y="5638680"/>
            <a:ext cx="1676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Hyperprolactinemia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TextBox 70"/>
          <p:cNvSpPr/>
          <p:nvPr/>
        </p:nvSpPr>
        <p:spPr>
          <a:xfrm>
            <a:off x="6710400" y="2971800"/>
            <a:ext cx="1061640" cy="733320"/>
          </a:xfrm>
          <a:prstGeom prst="rect">
            <a:avLst/>
          </a:prstGeom>
          <a:solidFill>
            <a:srgbClr val="badde1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ORMAL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ormonal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fil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93" name="Straight Arrow Connector 75"/>
          <p:cNvCxnSpPr>
            <a:endCxn id="94" idx="0"/>
          </p:cNvCxnSpPr>
          <p:nvPr/>
        </p:nvCxnSpPr>
        <p:spPr>
          <a:xfrm flipH="1">
            <a:off x="5790960" y="3732840"/>
            <a:ext cx="1296000" cy="53388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95" name="Straight Arrow Connector 77"/>
          <p:cNvCxnSpPr/>
          <p:nvPr/>
        </p:nvCxnSpPr>
        <p:spPr>
          <a:xfrm flipH="1">
            <a:off x="7085880" y="3733920"/>
            <a:ext cx="29160" cy="45792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94" name="TextBox 78"/>
          <p:cNvSpPr/>
          <p:nvPr/>
        </p:nvSpPr>
        <p:spPr>
          <a:xfrm>
            <a:off x="5181480" y="4267080"/>
            <a:ext cx="1219320" cy="13424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erenc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bstruction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Vasectomy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rauma 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Congenital Absence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TextBox 80"/>
          <p:cNvSpPr/>
          <p:nvPr/>
        </p:nvSpPr>
        <p:spPr>
          <a:xfrm>
            <a:off x="6480360" y="4191120"/>
            <a:ext cx="1252080" cy="9464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eminal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esicle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&amp;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jacul. Duct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TextBox 83"/>
          <p:cNvSpPr/>
          <p:nvPr/>
        </p:nvSpPr>
        <p:spPr>
          <a:xfrm>
            <a:off x="8004960" y="4038480"/>
            <a:ext cx="893880" cy="307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at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98" name="Straight Arrow Connector 85"/>
          <p:cNvCxnSpPr/>
          <p:nvPr/>
        </p:nvCxnSpPr>
        <p:spPr>
          <a:xfrm>
            <a:off x="7086240" y="3733920"/>
            <a:ext cx="1067400" cy="30528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99" name="Right Arrow 93"/>
          <p:cNvSpPr/>
          <p:nvPr/>
        </p:nvSpPr>
        <p:spPr>
          <a:xfrm flipV="1">
            <a:off x="5715000" y="3276720"/>
            <a:ext cx="990720" cy="457200"/>
          </a:xfrm>
          <a:prstGeom prst="rightArrow">
            <a:avLst>
              <a:gd name="adj1" fmla="val 37093"/>
              <a:gd name="adj2" fmla="val 5001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TextBox 96"/>
          <p:cNvSpPr/>
          <p:nvPr/>
        </p:nvSpPr>
        <p:spPr>
          <a:xfrm>
            <a:off x="2215080" y="4114800"/>
            <a:ext cx="1617840" cy="307080"/>
          </a:xfrm>
          <a:prstGeom prst="rect">
            <a:avLst/>
          </a:prstGeom>
          <a:solidFill>
            <a:srgbClr val="badde1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bnormal Profil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Right Arrow 110"/>
          <p:cNvSpPr/>
          <p:nvPr/>
        </p:nvSpPr>
        <p:spPr>
          <a:xfrm rot="9363600">
            <a:off x="2958840" y="3658680"/>
            <a:ext cx="1336680" cy="357480"/>
          </a:xfrm>
          <a:prstGeom prst="rightArrow">
            <a:avLst>
              <a:gd name="adj1" fmla="val 50000"/>
              <a:gd name="adj2" fmla="val 4989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TextBox 111"/>
          <p:cNvSpPr/>
          <p:nvPr/>
        </p:nvSpPr>
        <p:spPr>
          <a:xfrm>
            <a:off x="5723280" y="5688000"/>
            <a:ext cx="2742480" cy="11595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ow Semen Amount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ow or no Semen Coagulation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ow Semen pH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ow Sperm Motility &amp; Viability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ow Semen Fructos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Down Arrow 112"/>
          <p:cNvSpPr/>
          <p:nvPr/>
        </p:nvSpPr>
        <p:spPr>
          <a:xfrm>
            <a:off x="6858000" y="5105520"/>
            <a:ext cx="457200" cy="5331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TextBox 113"/>
          <p:cNvSpPr/>
          <p:nvPr/>
        </p:nvSpPr>
        <p:spPr>
          <a:xfrm>
            <a:off x="7924680" y="4495680"/>
            <a:ext cx="1067040" cy="8856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Prostatic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Arial"/>
              </a:rPr>
              <a:t>Invest. 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cid Phosphatase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SA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Down Arrow 125"/>
          <p:cNvSpPr/>
          <p:nvPr/>
        </p:nvSpPr>
        <p:spPr>
          <a:xfrm>
            <a:off x="8153280" y="4343400"/>
            <a:ext cx="45720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Down Arrow 130"/>
          <p:cNvSpPr/>
          <p:nvPr/>
        </p:nvSpPr>
        <p:spPr>
          <a:xfrm>
            <a:off x="685800" y="5334120"/>
            <a:ext cx="3808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TextBox 133"/>
          <p:cNvSpPr/>
          <p:nvPr/>
        </p:nvSpPr>
        <p:spPr>
          <a:xfrm>
            <a:off x="0" y="6477120"/>
            <a:ext cx="2044800" cy="276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Orchitis, Radiation, Traum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TextBox 134"/>
          <p:cNvSpPr/>
          <p:nvPr/>
        </p:nvSpPr>
        <p:spPr>
          <a:xfrm>
            <a:off x="2286000" y="6211800"/>
            <a:ext cx="1219320" cy="641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ypothalamic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or  Pituitary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iseas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TextBox 135"/>
          <p:cNvSpPr/>
          <p:nvPr/>
        </p:nvSpPr>
        <p:spPr>
          <a:xfrm>
            <a:off x="4193640" y="6248520"/>
            <a:ext cx="912240" cy="276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auses ??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Down Arrow 138"/>
          <p:cNvSpPr/>
          <p:nvPr/>
        </p:nvSpPr>
        <p:spPr>
          <a:xfrm>
            <a:off x="2666880" y="5334120"/>
            <a:ext cx="38124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Down Arrow 139"/>
          <p:cNvSpPr/>
          <p:nvPr/>
        </p:nvSpPr>
        <p:spPr>
          <a:xfrm>
            <a:off x="4343400" y="5334120"/>
            <a:ext cx="3808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Down Arrow 139"/>
          <p:cNvSpPr/>
          <p:nvPr/>
        </p:nvSpPr>
        <p:spPr>
          <a:xfrm>
            <a:off x="4952880" y="2666880"/>
            <a:ext cx="381240" cy="45720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Right Arrow 110"/>
          <p:cNvSpPr/>
          <p:nvPr/>
        </p:nvSpPr>
        <p:spPr>
          <a:xfrm rot="9363600">
            <a:off x="1541520" y="4497480"/>
            <a:ext cx="968400" cy="295200"/>
          </a:xfrm>
          <a:prstGeom prst="rightArrow">
            <a:avLst>
              <a:gd name="adj1" fmla="val 50000"/>
              <a:gd name="adj2" fmla="val 49891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Right Arrow 110"/>
          <p:cNvSpPr/>
          <p:nvPr/>
        </p:nvSpPr>
        <p:spPr>
          <a:xfrm rot="9363600">
            <a:off x="3183840" y="1956960"/>
            <a:ext cx="731880" cy="45396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Right Arrow 110"/>
          <p:cNvSpPr/>
          <p:nvPr/>
        </p:nvSpPr>
        <p:spPr>
          <a:xfrm rot="1213200">
            <a:off x="3941280" y="1941480"/>
            <a:ext cx="731880" cy="45396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Down Arrow 112"/>
          <p:cNvSpPr/>
          <p:nvPr/>
        </p:nvSpPr>
        <p:spPr>
          <a:xfrm>
            <a:off x="4343400" y="5943600"/>
            <a:ext cx="45720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7241040" y="1295280"/>
            <a:ext cx="1607040" cy="137268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Arial"/>
              </a:rPr>
              <a:t>Other Anomalie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bnormal Form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perm Agglutin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ntobodie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us cell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BC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Right Arrow 48"/>
          <p:cNvSpPr/>
          <p:nvPr/>
        </p:nvSpPr>
        <p:spPr>
          <a:xfrm flipV="1">
            <a:off x="6400800" y="159948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Down Arrow 139"/>
          <p:cNvSpPr/>
          <p:nvPr/>
        </p:nvSpPr>
        <p:spPr>
          <a:xfrm>
            <a:off x="990720" y="2743200"/>
            <a:ext cx="38088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" name="Down Arrow 1"/>
          <p:cNvSpPr/>
          <p:nvPr/>
        </p:nvSpPr>
        <p:spPr>
          <a:xfrm>
            <a:off x="12192120" y="55627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Down Arrow 138"/>
          <p:cNvSpPr/>
          <p:nvPr/>
        </p:nvSpPr>
        <p:spPr>
          <a:xfrm>
            <a:off x="2705040" y="4478400"/>
            <a:ext cx="3812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Right Arrow 110"/>
          <p:cNvSpPr/>
          <p:nvPr/>
        </p:nvSpPr>
        <p:spPr>
          <a:xfrm rot="1423800">
            <a:off x="3366720" y="4483080"/>
            <a:ext cx="709560" cy="222120"/>
          </a:xfrm>
          <a:prstGeom prst="rightArrow">
            <a:avLst>
              <a:gd name="adj1" fmla="val 50000"/>
              <a:gd name="adj2" fmla="val 50106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haroni"/>
                <a:ea typeface="Aharoni"/>
              </a:rPr>
              <a:t>Primary Hypogonadism</a:t>
            </a:r>
            <a:br>
              <a:rPr sz="3200"/>
            </a:br>
            <a:r>
              <a:rPr b="1" lang="en-US" sz="4000" spc="-1" strike="noStrike">
                <a:solidFill>
                  <a:srgbClr val="ff3300"/>
                </a:solidFill>
                <a:latin typeface="Aharoni"/>
                <a:ea typeface="Aharoni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Primary Testicular Fail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Damage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BOTH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the interstitial cells &amp; semniferous tubules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Testoster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Gonadotrophins (LH &amp; F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Damage of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Only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semniferous tubules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in FSH (but LH n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Testosterone normal (as interstitial cells int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472680"/>
            <a:ext cx="7391520" cy="1173240"/>
          </a:xfrm>
          <a:prstGeom prst="rect">
            <a:avLst/>
          </a:prstGeom>
          <a:solidFill>
            <a:srgbClr val="f2f2f2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aricocele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Cause of Male Infertility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572000" y="3510000"/>
            <a:ext cx="2457360" cy="15285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457200" y="1981080"/>
            <a:ext cx="83059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mon, disease  affecting 15% of men overall &amp;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40% of men with known infertility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Varicocele is an abnormal enlargement of </a:t>
            </a:r>
            <a:r>
              <a:rPr b="1" lang="en-US" sz="1400" spc="-1" strike="noStrike" u="sng">
                <a:solidFill>
                  <a:srgbClr val="000099"/>
                </a:solidFill>
                <a:uFillTx/>
                <a:latin typeface="Arial"/>
              </a:rPr>
              <a:t>the pampinform plexus of veins in the scrotum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ampinform plexus of veins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drains the testicles.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Varicocele may raise the temperature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the testicles or cause blood to back up in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the veins supplying the testicles.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aricocele seem to help damage or kill the sperm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he detrimental effect of varicocele on sperm production is progressive and due to reduction in supply of oxygenated blood &amp; nutrient material to the sperm production sites, which persistently reduces the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quality &amp; the quantity of the sperms, leading to reduction in their fertility capacity with time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Assessment of  Sperm 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543040" cy="396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3352680" y="1905120"/>
            <a:ext cx="4953240" cy="3213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3429000" y="5105520"/>
            <a:ext cx="5181480" cy="11912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rmally  the sperm count contains fewer than 20 % abnormal forms e.g. bitailed, short tailed , 2 heads …..etc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Cause of Male Infertility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373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LABORATORY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Diagnostic Approaches of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Female Infertility</a:t>
            </a:r>
            <a:br>
              <a:rPr sz="40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rmonal 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1701720" y="990720"/>
            <a:ext cx="5276880" cy="398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haroni"/>
                <a:ea typeface="Aharoni"/>
              </a:rPr>
              <a:t>Detailed History &amp; Physical Examination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891320" y="1981080"/>
            <a:ext cx="3509280" cy="398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Amenorrhea, Oligomenorrhoea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1531440" y="1981080"/>
            <a:ext cx="1832760" cy="398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Normal menses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517680" y="2664000"/>
            <a:ext cx="4414680" cy="6426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Investigations for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Calibri"/>
              </a:rPr>
              <a:t>Ovul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Progesterone n day 21 (mid luteal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5292720" y="2664000"/>
            <a:ext cx="210996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Pregnancy Test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TextBox 12"/>
          <p:cNvSpPr/>
          <p:nvPr/>
        </p:nvSpPr>
        <p:spPr>
          <a:xfrm>
            <a:off x="7391520" y="6095880"/>
            <a:ext cx="1385640" cy="58068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Furth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Investig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TextBox 46"/>
          <p:cNvSpPr/>
          <p:nvPr/>
        </p:nvSpPr>
        <p:spPr>
          <a:xfrm>
            <a:off x="7086600" y="30481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+ v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TextBox 94"/>
          <p:cNvSpPr/>
          <p:nvPr/>
        </p:nvSpPr>
        <p:spPr>
          <a:xfrm>
            <a:off x="4724280" y="4343400"/>
            <a:ext cx="381636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LH, FSH &amp; Prolacti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TextBox 95"/>
          <p:cNvSpPr/>
          <p:nvPr/>
        </p:nvSpPr>
        <p:spPr>
          <a:xfrm>
            <a:off x="1295280" y="5486400"/>
            <a:ext cx="1371600" cy="5806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High FSH 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&amp; LH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2" name="Group 34"/>
          <p:cNvGrpSpPr/>
          <p:nvPr/>
        </p:nvGrpSpPr>
        <p:grpSpPr>
          <a:xfrm>
            <a:off x="762120" y="3429000"/>
            <a:ext cx="1866960" cy="76320"/>
            <a:chOff x="762120" y="3429000"/>
            <a:chExt cx="1866960" cy="76320"/>
          </a:xfrm>
        </p:grpSpPr>
        <p:sp>
          <p:nvSpPr>
            <p:cNvPr id="143" name="Straight Connector 62"/>
            <p:cNvSpPr/>
            <p:nvPr/>
          </p:nvSpPr>
          <p:spPr>
            <a:xfrm flipH="1">
              <a:off x="762120" y="3429000"/>
              <a:ext cx="914400" cy="46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Straight Connector 66"/>
            <p:cNvSpPr/>
            <p:nvPr/>
          </p:nvSpPr>
          <p:spPr>
            <a:xfrm flipH="1" flipV="1">
              <a:off x="1676520" y="3429000"/>
              <a:ext cx="952560" cy="7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5" name="TextBox 69"/>
          <p:cNvSpPr/>
          <p:nvPr/>
        </p:nvSpPr>
        <p:spPr>
          <a:xfrm>
            <a:off x="71280" y="3672000"/>
            <a:ext cx="1332000" cy="3373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libri"/>
              </a:rPr>
              <a:t>&gt;30 nmol/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TextBox 70"/>
          <p:cNvSpPr/>
          <p:nvPr/>
        </p:nvSpPr>
        <p:spPr>
          <a:xfrm>
            <a:off x="2057400" y="3657600"/>
            <a:ext cx="1295280" cy="3373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libri"/>
              </a:rPr>
              <a:t>&lt;10 nmol/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TextBox 73"/>
          <p:cNvSpPr/>
          <p:nvPr/>
        </p:nvSpPr>
        <p:spPr>
          <a:xfrm>
            <a:off x="1447920" y="6273720"/>
            <a:ext cx="1371600" cy="5202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1ry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Ovarian Fail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TextBox 74"/>
          <p:cNvSpPr/>
          <p:nvPr/>
        </p:nvSpPr>
        <p:spPr>
          <a:xfrm>
            <a:off x="49320" y="4464000"/>
            <a:ext cx="133164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Ovul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" name="TextBox 77"/>
          <p:cNvSpPr/>
          <p:nvPr/>
        </p:nvSpPr>
        <p:spPr>
          <a:xfrm>
            <a:off x="1905120" y="4419720"/>
            <a:ext cx="151128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Calibri"/>
              </a:rPr>
              <a:t>No</a:t>
            </a: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 Ovul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" name="TextBox 88"/>
          <p:cNvSpPr/>
          <p:nvPr/>
        </p:nvSpPr>
        <p:spPr>
          <a:xfrm>
            <a:off x="7848720" y="2438280"/>
            <a:ext cx="1008000" cy="8240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No Further Tests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TextBox 90"/>
          <p:cNvSpPr/>
          <p:nvPr/>
        </p:nvSpPr>
        <p:spPr>
          <a:xfrm>
            <a:off x="6324480" y="35053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-v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Straight Connector 104"/>
          <p:cNvSpPr/>
          <p:nvPr/>
        </p:nvSpPr>
        <p:spPr>
          <a:xfrm>
            <a:off x="457200" y="5029200"/>
            <a:ext cx="7810560" cy="14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TextBox 108"/>
          <p:cNvSpPr/>
          <p:nvPr/>
        </p:nvSpPr>
        <p:spPr>
          <a:xfrm>
            <a:off x="2971800" y="5486400"/>
            <a:ext cx="1211400" cy="5806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High LH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Low FSH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TextBox 111"/>
          <p:cNvSpPr/>
          <p:nvPr/>
        </p:nvSpPr>
        <p:spPr>
          <a:xfrm>
            <a:off x="2935440" y="6324480"/>
            <a:ext cx="1368360" cy="3373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PCOS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TextBox 112"/>
          <p:cNvSpPr/>
          <p:nvPr/>
        </p:nvSpPr>
        <p:spPr>
          <a:xfrm>
            <a:off x="5376960" y="5364000"/>
            <a:ext cx="1211040" cy="5806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High Prolactin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TextBox 113"/>
          <p:cNvSpPr/>
          <p:nvPr/>
        </p:nvSpPr>
        <p:spPr>
          <a:xfrm>
            <a:off x="4505400" y="6235560"/>
            <a:ext cx="2736720" cy="5504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Investigation for a cause of 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hyperprolactinemia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TextBox 115"/>
          <p:cNvSpPr/>
          <p:nvPr/>
        </p:nvSpPr>
        <p:spPr>
          <a:xfrm>
            <a:off x="7238880" y="5486400"/>
            <a:ext cx="1692360" cy="3373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All Norma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" name="Title 159"/>
          <p:cNvSpPr/>
          <p:nvPr/>
        </p:nvSpPr>
        <p:spPr>
          <a:xfrm>
            <a:off x="304920" y="216000"/>
            <a:ext cx="8588160" cy="546120"/>
          </a:xfrm>
          <a:prstGeom prst="rect">
            <a:avLst/>
          </a:prstGeom>
          <a:solidFill>
            <a:srgbClr val="f2f2f2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Diagnostic Approach to Infertility in Female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" name="Down Arrow 70"/>
          <p:cNvSpPr/>
          <p:nvPr/>
        </p:nvSpPr>
        <p:spPr>
          <a:xfrm>
            <a:off x="6095880" y="4724280"/>
            <a:ext cx="38124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Right Arrow 71"/>
          <p:cNvSpPr/>
          <p:nvPr/>
        </p:nvSpPr>
        <p:spPr>
          <a:xfrm>
            <a:off x="3429000" y="4419720"/>
            <a:ext cx="11430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Down Arrow 72"/>
          <p:cNvSpPr/>
          <p:nvPr/>
        </p:nvSpPr>
        <p:spPr>
          <a:xfrm>
            <a:off x="2438280" y="40384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Down Arrow 73"/>
          <p:cNvSpPr/>
          <p:nvPr/>
        </p:nvSpPr>
        <p:spPr>
          <a:xfrm>
            <a:off x="609480" y="40384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Down Arrow 74"/>
          <p:cNvSpPr/>
          <p:nvPr/>
        </p:nvSpPr>
        <p:spPr>
          <a:xfrm>
            <a:off x="8077320" y="5029200"/>
            <a:ext cx="380880" cy="45720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" name="Down Arrow 75"/>
          <p:cNvSpPr/>
          <p:nvPr/>
        </p:nvSpPr>
        <p:spPr>
          <a:xfrm>
            <a:off x="5791320" y="5029200"/>
            <a:ext cx="38088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Down Arrow 76"/>
          <p:cNvSpPr/>
          <p:nvPr/>
        </p:nvSpPr>
        <p:spPr>
          <a:xfrm>
            <a:off x="3429000" y="5029200"/>
            <a:ext cx="380880" cy="45720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" name="Down Arrow 77"/>
          <p:cNvSpPr/>
          <p:nvPr/>
        </p:nvSpPr>
        <p:spPr>
          <a:xfrm>
            <a:off x="1676520" y="50292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Down Arrow 78"/>
          <p:cNvSpPr/>
          <p:nvPr/>
        </p:nvSpPr>
        <p:spPr>
          <a:xfrm>
            <a:off x="6095880" y="3048120"/>
            <a:ext cx="381240" cy="129528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Down Arrow 79"/>
          <p:cNvSpPr/>
          <p:nvPr/>
        </p:nvSpPr>
        <p:spPr>
          <a:xfrm>
            <a:off x="1752480" y="6095880"/>
            <a:ext cx="381240" cy="15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Down Arrow 80"/>
          <p:cNvSpPr/>
          <p:nvPr/>
        </p:nvSpPr>
        <p:spPr>
          <a:xfrm>
            <a:off x="3429000" y="609588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" name="Down Arrow 81"/>
          <p:cNvSpPr/>
          <p:nvPr/>
        </p:nvSpPr>
        <p:spPr>
          <a:xfrm>
            <a:off x="5715000" y="5943600"/>
            <a:ext cx="38088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Down Arrow 82"/>
          <p:cNvSpPr/>
          <p:nvPr/>
        </p:nvSpPr>
        <p:spPr>
          <a:xfrm>
            <a:off x="7924680" y="5791320"/>
            <a:ext cx="38124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" name="TextBox 83"/>
          <p:cNvSpPr/>
          <p:nvPr/>
        </p:nvSpPr>
        <p:spPr>
          <a:xfrm>
            <a:off x="228600" y="5486400"/>
            <a:ext cx="963720" cy="5806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Low FSH &amp; LH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Down Arrow 84"/>
          <p:cNvSpPr/>
          <p:nvPr/>
        </p:nvSpPr>
        <p:spPr>
          <a:xfrm>
            <a:off x="380880" y="50292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Right Arrow 85"/>
          <p:cNvSpPr/>
          <p:nvPr/>
        </p:nvSpPr>
        <p:spPr>
          <a:xfrm>
            <a:off x="7391520" y="2666880"/>
            <a:ext cx="457200" cy="38124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" name="Down Arrow 86"/>
          <p:cNvSpPr/>
          <p:nvPr/>
        </p:nvSpPr>
        <p:spPr>
          <a:xfrm>
            <a:off x="6095880" y="2362320"/>
            <a:ext cx="45720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Down Arrow 87"/>
          <p:cNvSpPr/>
          <p:nvPr/>
        </p:nvSpPr>
        <p:spPr>
          <a:xfrm rot="3379800">
            <a:off x="3597480" y="1286280"/>
            <a:ext cx="295200" cy="932040"/>
          </a:xfrm>
          <a:prstGeom prst="downArrow">
            <a:avLst>
              <a:gd name="adj1" fmla="val 50000"/>
              <a:gd name="adj2" fmla="val 50166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" name="Down Arrow 88"/>
          <p:cNvSpPr/>
          <p:nvPr/>
        </p:nvSpPr>
        <p:spPr>
          <a:xfrm rot="18483600">
            <a:off x="4397760" y="1324440"/>
            <a:ext cx="303120" cy="86688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Down Arrow 91"/>
          <p:cNvSpPr/>
          <p:nvPr/>
        </p:nvSpPr>
        <p:spPr>
          <a:xfrm>
            <a:off x="2438280" y="3505320"/>
            <a:ext cx="38124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Down Arrow 92"/>
          <p:cNvSpPr/>
          <p:nvPr/>
        </p:nvSpPr>
        <p:spPr>
          <a:xfrm>
            <a:off x="685800" y="3505320"/>
            <a:ext cx="38088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Down Arrow 93"/>
          <p:cNvSpPr/>
          <p:nvPr/>
        </p:nvSpPr>
        <p:spPr>
          <a:xfrm>
            <a:off x="1447920" y="3276720"/>
            <a:ext cx="38088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Down Arrow 95"/>
          <p:cNvSpPr/>
          <p:nvPr/>
        </p:nvSpPr>
        <p:spPr>
          <a:xfrm>
            <a:off x="2133720" y="2362320"/>
            <a:ext cx="48420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TextBox 73"/>
          <p:cNvSpPr/>
          <p:nvPr/>
        </p:nvSpPr>
        <p:spPr>
          <a:xfrm>
            <a:off x="152280" y="6248520"/>
            <a:ext cx="1143000" cy="5202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Pituitary or hypothalam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Down Arrow 98"/>
          <p:cNvSpPr/>
          <p:nvPr/>
        </p:nvSpPr>
        <p:spPr>
          <a:xfrm>
            <a:off x="609480" y="6095880"/>
            <a:ext cx="381240" cy="15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Endocrine investigation is of diagnostic value for women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Irregular or no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menstr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No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ov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762120" y="990720"/>
            <a:ext cx="761976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Endocrine causes of infertility in Female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haroni"/>
                <a:ea typeface="Aharoni"/>
              </a:rPr>
              <a:t>Endocrine causes of infertility in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8763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Primary ovarian failure: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 oestradiol &amp; ↑ gonadotrophins (FSH &amp; L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Hyperprolactinemia (↑ blood prolac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Polycystic ovary syndrome (PCOS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Cushing’s syndrome (↑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steroid 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Hypogonadotrophic hypogonadism (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↓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pituitary hormones FSH &amp; LH):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Cushing Syndr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Overproduction of cortisol by the adrenal cortex mainly caused by adrenal cortical aden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Due to increased production of adrenal cortical androgens (androstendion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Hyperprolactin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8288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Prolacti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Hormone secreted by the anterior pitui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t acts directly on the mammary glands to  control lac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Hyperprolactina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Elevated blood prolac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 common cause of infertility in both sexes due to gonadal function impai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Early indication of hyperprolactinemia: amenorrhea &amp; galctorrho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haroni"/>
                <a:ea typeface="Aharoni"/>
              </a:rPr>
              <a:t>Objectives of the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call factors required for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call the definition of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fertility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Understand the correlation of biochemical and clinical aspects of the common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endocrinal causes infertility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 males and fem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cognizing the biochemical aspects of overall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laboratory investigations of infertility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in males and fem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28600" y="18288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creased prolactin hormone secretion by the anterior pituitary g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mon causes of hyperprolactin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Medication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e.g. estrogens in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rimary</a:t>
            </a:r>
            <a:r>
              <a:rPr b="0" lang="en-US" sz="2000" spc="-1" strike="noStrike" baseline="30000">
                <a:solidFill>
                  <a:srgbClr val="000099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hypothyroidism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prolactin is stimulated by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T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ituitary dise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rolactinoma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 microadenoma of the pituitary cells secreting prolac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diopathic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hypersecretion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 e.g. due to impaired secretion of dopamine tha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usually inhibits prolacti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Hyperprolactinemia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Calibri"/>
                <a:ea typeface="Calibri"/>
              </a:rPr>
              <a:t>Diagnosis of the cause of hyperprolactinemia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FFIRST, the followings causes should be EXCLUDED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S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Medications in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Primary hypothyroidism (low T3 &amp; T4, High T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Pituitary diseases (assay of other pituitary hormo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If all above are ex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Differential diagnosis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rolactino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diopathic hypersecre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Detailed pituitary MRI (to exclude prolactino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Dynamic tests of prolactin secre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        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1- Administration of TR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        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2- Then, blood prolactin (PRL) is measur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if  PRL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: Idiopathic hyperprolactinemia (caused by low dopam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If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no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 in PRL:  Pituitary tum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Hyperprolactinemia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304920" y="1600200"/>
            <a:ext cx="84582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olycystic ovary syndrome is a problem in which a woman’s hormone are out of balance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t can cause irregular menstruation &amp; may lead to infertility (due to anovulation)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olycystic ovary syndrome (or PCOS) is common, affecting as many as 1 out of 15 women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ften the symptoms begin in the teen years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or reasons that are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not well understood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, in PCOS the hormones get out of balance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ne hormone change triggers another, which changes another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or example, the sex hormones get out of balance. Normally, the ovaries make a tiny amount of male sex hormones (androgens).  In PCOS, ovaries produce more androgens. &amp; thus this may cause anovulation, menstrual disturbances, infertility, acne &amp; grow extra facial &amp; body hair (hirsutism)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Polycystic Ovary Syndrome (POCS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6"/>
          <p:cNvGrpSpPr/>
          <p:nvPr/>
        </p:nvGrpSpPr>
        <p:grpSpPr>
          <a:xfrm>
            <a:off x="1295280" y="1981080"/>
            <a:ext cx="7085880" cy="4186440"/>
            <a:chOff x="1295280" y="1981080"/>
            <a:chExt cx="7085880" cy="4186440"/>
          </a:xfrm>
        </p:grpSpPr>
        <p:sp>
          <p:nvSpPr>
            <p:cNvPr id="199" name="AutoShape 4"/>
            <p:cNvSpPr/>
            <p:nvPr/>
          </p:nvSpPr>
          <p:spPr>
            <a:xfrm>
              <a:off x="1651320" y="2768400"/>
              <a:ext cx="2136960" cy="2882880"/>
            </a:xfrm>
            <a:custGeom>
              <a:avLst/>
              <a:gdLst>
                <a:gd name="textAreaLeft" fmla="*/ 78120 w 2136960"/>
                <a:gd name="textAreaRight" fmla="*/ 2058840 w 2136960"/>
                <a:gd name="textAreaTop" fmla="*/ 78120 h 2882880"/>
                <a:gd name="textAreaBottom" fmla="*/ 2804760 h 2882880"/>
              </a:gdLst>
              <a:ahLst/>
              <a:rect l="textAreaLeft" t="textAreaTop" r="textAreaRight" b="textAreaBottom"/>
              <a:pathLst>
                <a:path w="21600" h="29138">
                  <a:moveTo>
                    <a:pt x="2697" y="0"/>
                  </a:moveTo>
                  <a:arcTo wR="2697" hR="2697" stAng="16200000" swAng="-5400000"/>
                  <a:lnTo>
                    <a:pt x="0" y="26441"/>
                  </a:lnTo>
                  <a:arcTo wR="2697" hR="2697" stAng="10800000" swAng="-5400000"/>
                  <a:lnTo>
                    <a:pt x="18903" y="2913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4296600" y="2768400"/>
              <a:ext cx="4080960" cy="288288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2021400" y="5736960"/>
              <a:ext cx="1554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ff0000"/>
                  </a:solidFill>
                  <a:uFillTx/>
                  <a:latin typeface="Aharoni"/>
                  <a:ea typeface="Aharoni"/>
                </a:rPr>
                <a:t>Theca cell</a:t>
              </a:r>
              <a:endParaRPr b="0" lang="en-US" sz="2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4777560" y="5743440"/>
              <a:ext cx="33728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ff0000"/>
                  </a:solidFill>
                  <a:uFillTx/>
                  <a:latin typeface="Aharoni"/>
                  <a:ea typeface="Aharoni"/>
                </a:rPr>
                <a:t>Granulosa cell of ovary</a:t>
              </a:r>
              <a:endParaRPr b="0" lang="en-US" sz="2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" name="AutoShape 8"/>
            <p:cNvSpPr/>
            <p:nvPr/>
          </p:nvSpPr>
          <p:spPr>
            <a:xfrm flipH="1" flipV="1" rot="10800000">
              <a:off x="2470320" y="2571840"/>
              <a:ext cx="519480" cy="460080"/>
            </a:xfrm>
            <a:custGeom>
              <a:avLst/>
              <a:gdLst>
                <a:gd name="textAreaLeft" fmla="*/ 107640 w 519480"/>
                <a:gd name="textAreaRight" fmla="*/ 411840 w 519480"/>
                <a:gd name="textAreaTop" fmla="*/ 95040 h 460080"/>
                <a:gd name="textAreaBottom" fmla="*/ 36504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7" y="21600"/>
                  </a:lnTo>
                  <a:lnTo>
                    <a:pt x="1620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487600" y="2027160"/>
              <a:ext cx="521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LH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1358280" y="2590560"/>
              <a:ext cx="1240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LH receptor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>
              <a:off x="2697480" y="283032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1295280" y="3244680"/>
              <a:ext cx="2765880" cy="21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          </a:t>
              </a: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cholesterol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             </a:t>
              </a:r>
              <a:r>
                <a:rPr b="1" lang="en-US" sz="1400" spc="-1" strike="noStrike" u="sng">
                  <a:solidFill>
                    <a:srgbClr val="000099"/>
                  </a:solidFill>
                  <a:uFillTx/>
                  <a:latin typeface="Aharoni"/>
                  <a:ea typeface="Aharoni"/>
                </a:rPr>
                <a:t>Androstendione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2686320" y="369072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>
              <a:off x="2686320" y="468144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2686320" y="399564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2686320" y="43005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>
              <a:off x="2686320" y="49863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3352320" y="5226120"/>
              <a:ext cx="1233720" cy="50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4" name="Rectangle 19"/>
            <p:cNvSpPr/>
            <p:nvPr/>
          </p:nvSpPr>
          <p:spPr>
            <a:xfrm>
              <a:off x="4574880" y="5073480"/>
              <a:ext cx="369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Androstendione</a:t>
              </a: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             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haroni"/>
                  <a:ea typeface="Aharoni"/>
                </a:rPr>
                <a:t>Testosterone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5" name="AutoShape 21"/>
            <p:cNvSpPr/>
            <p:nvPr/>
          </p:nvSpPr>
          <p:spPr>
            <a:xfrm flipH="1" rot="16200000">
              <a:off x="5318640" y="2598120"/>
              <a:ext cx="520560" cy="251640"/>
            </a:xfrm>
            <a:custGeom>
              <a:avLst/>
              <a:gdLst>
                <a:gd name="textAreaLeft" fmla="*/ 360 w 520560"/>
                <a:gd name="textAreaRight" fmla="*/ 521280 w 52056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6" name="Rectangle 22"/>
            <p:cNvSpPr/>
            <p:nvPr/>
          </p:nvSpPr>
          <p:spPr>
            <a:xfrm>
              <a:off x="5255280" y="1981080"/>
              <a:ext cx="690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FSH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7" name="Line 23"/>
            <p:cNvSpPr/>
            <p:nvPr/>
          </p:nvSpPr>
          <p:spPr>
            <a:xfrm>
              <a:off x="5600880" y="3031920"/>
              <a:ext cx="1142280" cy="1560600"/>
            </a:xfrm>
            <a:prstGeom prst="line">
              <a:avLst/>
            </a:prstGeom>
            <a:ln w="28440">
              <a:solidFill>
                <a:srgbClr val="00b050"/>
              </a:solidFill>
              <a:prstDash val="sys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8" name="Rectangle 24"/>
            <p:cNvSpPr/>
            <p:nvPr/>
          </p:nvSpPr>
          <p:spPr>
            <a:xfrm>
              <a:off x="6857280" y="4483080"/>
              <a:ext cx="1309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Calibri"/>
                  <a:ea typeface="Calibri"/>
                </a:rPr>
                <a:t>aromatase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" name="Rectangle 25"/>
            <p:cNvSpPr/>
            <p:nvPr/>
          </p:nvSpPr>
          <p:spPr>
            <a:xfrm>
              <a:off x="6634440" y="3697200"/>
              <a:ext cx="1746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0000"/>
                  </a:solidFill>
                  <a:uFillTx/>
                  <a:latin typeface="Aharoni"/>
                  <a:ea typeface="Aharoni"/>
                </a:rPr>
                <a:t>Estradiol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92280" y="310680"/>
            <a:ext cx="7759440" cy="12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haroni"/>
                <a:ea typeface="Aharoni"/>
              </a:rPr>
              <a:t>Review of 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Aharoni"/>
                <a:ea typeface="Aharoni"/>
              </a:rPr>
              <a:t>Synthesis of Steroid Hormones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Aharoni"/>
                <a:ea typeface="Aharoni"/>
              </a:rPr>
              <a:t>(testosterone &amp; estradiol) in the Ov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Straight Arrow Connector 5"/>
          <p:cNvCxnSpPr/>
          <p:nvPr/>
        </p:nvCxnSpPr>
        <p:spPr>
          <a:xfrm>
            <a:off x="6400800" y="5181120"/>
            <a:ext cx="419760" cy="10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2" name="Straight Arrow Connector 7"/>
          <p:cNvCxnSpPr/>
          <p:nvPr/>
        </p:nvCxnSpPr>
        <p:spPr>
          <a:xfrm flipV="1">
            <a:off x="7314840" y="4266720"/>
            <a:ext cx="1080" cy="78984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23" name="TextBox 11"/>
          <p:cNvSpPr/>
          <p:nvPr/>
        </p:nvSpPr>
        <p:spPr>
          <a:xfrm>
            <a:off x="4133520" y="2590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SH recepto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619440" cy="28958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haroni"/>
                <a:ea typeface="Aharoni"/>
              </a:rPr>
              <a:t>Polycystic Ovary Syndrome (POCS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38718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Polycystic Ovarian Syndrome (POC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common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clinical features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f PCOS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Menstrual irregula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Signs of androgen excess (as hirsutism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Subfertility/Infertility (due to anov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Insulin resistance (due to obe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classical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hormonal profile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f  PCO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Hypersecretion of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LH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(in 60% of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Androgen (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testosteron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) exces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Normal (or low) concentration of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F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t is important to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exclud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disorders with similar presenting features as androgen secreting tumors &amp; C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262728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↓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SHBG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(sex hormone binding globul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↑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Free Testosterone (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&amp;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↓  Total testosterone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↑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Androgens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(androstend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↑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LH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: in 60% of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ormal (or low)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F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↑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LH/FSH ratio : in &gt; 90% of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haroni"/>
                <a:ea typeface="Aharoni"/>
              </a:rPr>
              <a:t>Polycystic Ovarian Syndrome (POCS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838080" y="1905120"/>
            <a:ext cx="7023240" cy="11905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Laboratory Investigations of POCS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  <a:ea typeface="Calibri"/>
              </a:rPr>
              <a:t>Biochemical Aspects of Treatment of P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Is directed toward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interrupting the cycle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Lowering LH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levels with oral contraceptive 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Increasing FSH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production by clomip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Weight reduction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in obese patients (to reduce insulin resi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Polycystic Ovary Syndrome (POC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haroni"/>
                <a:ea typeface="Aharoni"/>
              </a:rPr>
              <a:t>Requirements for Conceptio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alibri"/>
                <a:ea typeface="Calibri"/>
              </a:rPr>
              <a:t>Production of healthy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ova</a:t>
            </a:r>
            <a:r>
              <a:rPr b="0" lang="en-US" sz="2800" spc="-1" strike="noStrike">
                <a:solidFill>
                  <a:srgbClr val="000099"/>
                </a:solidFill>
                <a:latin typeface="Calibri"/>
                <a:ea typeface="Calibri"/>
              </a:rPr>
              <a:t> &amp;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sp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Unblocked tubes</a:t>
            </a:r>
            <a:r>
              <a:rPr b="0" lang="en-US" sz="2800" spc="-1" strike="noStrike">
                <a:solidFill>
                  <a:srgbClr val="000099"/>
                </a:solidFill>
                <a:latin typeface="Calibri"/>
                <a:ea typeface="Calibri"/>
              </a:rPr>
              <a:t> that allow sperm to reach the 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alibri"/>
                <a:ea typeface="Calibri"/>
              </a:rPr>
              <a:t>The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sperms ability to penetrate </a:t>
            </a:r>
            <a:r>
              <a:rPr b="0" lang="en-US" sz="2800" spc="-1" strike="noStrike">
                <a:solidFill>
                  <a:srgbClr val="000099"/>
                </a:solidFill>
                <a:latin typeface="Calibri"/>
                <a:ea typeface="Calibri"/>
              </a:rPr>
              <a:t>&amp; fertilize the 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alibri"/>
                <a:ea typeface="Calibri"/>
              </a:rPr>
              <a:t>Implantation of the embryo into the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ute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alibri"/>
                <a:ea typeface="Calibri"/>
              </a:rPr>
              <a:t>Finally a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healthy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haroni"/>
                <a:ea typeface="Aharoni"/>
              </a:rPr>
              <a:t>Infertility/ Subfer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The inability to conce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following unprotected  sexual intercou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for 1 year (age &lt; 3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or 6 months (age &gt;3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haroni"/>
                <a:ea typeface="Aharoni"/>
              </a:rPr>
              <a:t>Evaluation of the Infertile cou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History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Physical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Semen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analysis (to exclude male caus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Determination of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ov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Basal body temperature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Serum progester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Ovarian reserve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Endocrine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Hysterosalpingogram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(for uterus &amp; tub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373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LABORATORY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Diagnostic Approaches of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Male Infertility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minal Fluid Analysi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rmonal 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5410080" y="2590920"/>
            <a:ext cx="3353040" cy="2057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minal Vesicle Secre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Fructose</a:t>
            </a: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: 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source of energy for sperms 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Needed for  sperms motility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Prostaglandins</a:t>
            </a: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: 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Controlling sperm movement 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&amp; sperm penetration of cervical mucus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Fibrinogen-like substance </a:t>
            </a: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: 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Cause of viscosity of semen (coagulation)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28600" y="2819520"/>
            <a:ext cx="2743200" cy="2133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static Secre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pH  6.5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 (weak acidic)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Reduces acidity of vag.sec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Contains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vesiculas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Reduces semen  viscosity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Acid phosphatas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permine: bacteriostatic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aboratory Seminal Fluid Analysi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438280" y="1612800"/>
            <a:ext cx="2743200" cy="2598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2438280" y="2819520"/>
            <a:ext cx="1067040" cy="2133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029200" y="5121360"/>
          <a:ext cx="3429000" cy="1554120"/>
        </p:xfrm>
        <a:graphic>
          <a:graphicData uri="http://schemas.openxmlformats.org/drawingml/2006/table">
            <a:tbl>
              <a:tblPr/>
              <a:tblGrid>
                <a:gridCol w="2273400"/>
                <a:gridCol w="1155600"/>
              </a:tblGrid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ource of Secretion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% 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jaculate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esti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%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eminal vesicle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0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– 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%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cfc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rostate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– 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3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%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</a:tr>
              <a:tr h="45684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Bulbo-urethral &amp; urethral  gland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- 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%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cfc"/>
                    </a:solidFill>
                  </a:tcPr>
                </a:tc>
              </a:tr>
            </a:tbl>
          </a:graphicData>
        </a:graphic>
      </p:graphicFrame>
      <p:sp>
        <p:nvSpPr>
          <p:cNvPr id="64" name="Right Arrow 10"/>
          <p:cNvSpPr/>
          <p:nvPr/>
        </p:nvSpPr>
        <p:spPr>
          <a:xfrm rot="477600">
            <a:off x="4708440" y="2391840"/>
            <a:ext cx="1541520" cy="12096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Right Arrow 11"/>
          <p:cNvSpPr/>
          <p:nvPr/>
        </p:nvSpPr>
        <p:spPr>
          <a:xfrm rot="10086000">
            <a:off x="2588400" y="2812680"/>
            <a:ext cx="1521000" cy="14112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3809520" y="4419720"/>
            <a:ext cx="132372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esticular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ecre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Right Arrow 15"/>
          <p:cNvSpPr/>
          <p:nvPr/>
        </p:nvSpPr>
        <p:spPr>
          <a:xfrm rot="1726800">
            <a:off x="3638160" y="4105080"/>
            <a:ext cx="862200" cy="11412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228600" y="1371600"/>
            <a:ext cx="2209680" cy="10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Normal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Constituents of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Seminal Flui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rcRect l="-1966" t="43129" r="65296" b="-6025"/>
          <a:stretch/>
        </p:blipFill>
        <p:spPr>
          <a:xfrm>
            <a:off x="2133720" y="5105520"/>
            <a:ext cx="1544400" cy="175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embryology.med.unsw.edu.au/notes/images/urogen/XY_glands.gif"/>
          <p:cNvPicPr/>
          <p:nvPr/>
        </p:nvPicPr>
        <p:blipFill>
          <a:blip r:embed="rId3"/>
          <a:stretch/>
        </p:blipFill>
        <p:spPr>
          <a:xfrm>
            <a:off x="6248520" y="1447920"/>
            <a:ext cx="1170000" cy="990360"/>
          </a:xfrm>
          <a:prstGeom prst="rect">
            <a:avLst/>
          </a:prstGeom>
          <a:ln w="0">
            <a:noFill/>
          </a:ln>
        </p:spPr>
      </p:pic>
      <p:cxnSp>
        <p:nvCxnSpPr>
          <p:cNvPr id="71" name="Straight Arrow Connector 17"/>
          <p:cNvCxnSpPr/>
          <p:nvPr/>
        </p:nvCxnSpPr>
        <p:spPr>
          <a:xfrm flipV="1">
            <a:off x="3429000" y="5105160"/>
            <a:ext cx="4579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19"/>
          <p:cNvCxnSpPr/>
          <p:nvPr/>
        </p:nvCxnSpPr>
        <p:spPr>
          <a:xfrm flipV="1">
            <a:off x="4495320" y="2209320"/>
            <a:ext cx="2210760" cy="610560"/>
          </a:xfrm>
          <a:prstGeom prst="straightConnector1">
            <a:avLst/>
          </a:prstGeom>
          <a:ln w="93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3" name="Straight Arrow Connector 21"/>
          <p:cNvCxnSpPr/>
          <p:nvPr/>
        </p:nvCxnSpPr>
        <p:spPr>
          <a:xfrm flipV="1">
            <a:off x="4876560" y="1980360"/>
            <a:ext cx="1600920" cy="305640"/>
          </a:xfrm>
          <a:prstGeom prst="straightConnector1">
            <a:avLst/>
          </a:prstGeom>
          <a:ln w="9360">
            <a:solidFill>
              <a:srgbClr val="bbe0e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Laboratory Seminal Fluid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Content Placeholder 2"/>
          <p:cNvGrpSpPr/>
          <p:nvPr/>
        </p:nvGrpSpPr>
        <p:grpSpPr>
          <a:xfrm>
            <a:off x="530280" y="1238400"/>
            <a:ext cx="8772480" cy="5729040"/>
            <a:chOff x="530280" y="1238400"/>
            <a:chExt cx="8772480" cy="5729040"/>
          </a:xfrm>
        </p:grpSpPr>
        <p:pic>
          <p:nvPicPr>
            <p:cNvPr id="76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530280" y="1238400"/>
              <a:ext cx="8772480" cy="57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85800" y="1371600"/>
              <a:ext cx="8458200" cy="49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hysical Analysi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Volume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Liquefaction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 time (after coagulation)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pH 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icroscopic Analysi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Sperm  </a:t>
              </a:r>
              <a:r>
                <a:rPr b="0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count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Sperm  </a:t>
              </a:r>
              <a:r>
                <a:rPr b="0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morphology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Sperm  </a:t>
              </a:r>
              <a:r>
                <a:rPr b="0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motility  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Sperm  </a:t>
              </a:r>
              <a:r>
                <a:rPr b="0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viability  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Sperm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0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agglutination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iochemical Analysi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Fructose test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Acid phosphatase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Others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Antisperm antibody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Testicular Causes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  <a:ea typeface="Calibri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Radiation (as X-ray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Trauma of tes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Varicoc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Orchitis (inflammation of the test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Systemic disorder causing low testosterone or spermat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Abnormal sperm 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Secondary Hypogonadism: 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  <a:ea typeface="Calibri"/>
              </a:rPr>
              <a:t>(Low GnHR, FSH , L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Hypothalamic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Pituitary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Hyperprolacti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Altered Sperm Trans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bstruction of vas d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ongenital absence vas defer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Vasectomy (sperm count reaches zero after 3-6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ongenital absence or obstruction epided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Erectile dysfunction (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trograde eja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  <a:ea typeface="Calibri"/>
              </a:rPr>
              <a:t>Other less common c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s antiandrogens medications in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761760" y="228600"/>
            <a:ext cx="739116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Main Causes of Male Infer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9:52:56Z</dcterms:created>
  <dc:creator>Mona</dc:creator>
  <dc:description/>
  <dc:language>en-US</dc:language>
  <cp:lastModifiedBy>Rania Fouad</cp:lastModifiedBy>
  <dcterms:modified xsi:type="dcterms:W3CDTF">2016-04-10T10:42:24Z</dcterms:modified>
  <cp:revision>180</cp:revision>
  <dc:subject/>
  <dc:title>Slide 1</dc:title>
</cp:coreProperties>
</file>